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F0B18-53A0-49A9-B4B0-54EC376AA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C00C8-263E-424C-9564-26C6E7FBC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D7525-AED8-478B-9CD4-34CEBB7AD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CC683-4F3E-4DD7-B933-1A7948363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66416-C87A-47A9-A61B-99CD35347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BF065-AF0D-4255-88BB-0D8CC9357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61558-E5C8-47B8-B61B-5FF418A38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8298D-56CB-4C33-A46A-DFEA40696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F4477-85F9-4F93-911A-F4BED40E7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B5CB2-41EB-4480-866B-6266B9A6C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E1493-A56C-4FD9-AAC0-7579612C3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A96A5-89AF-474B-BEFB-D24494A83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72463-6A89-492B-B745-5CB75CAA0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6620D-0112-449F-8805-723087F28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B15B9-B2E0-41E1-B659-A51F4D0B6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A47B2-32CB-49A2-AB43-441328273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7EEB0-CBEE-4276-986E-3E11EA4C0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6D521-1FEE-4ACF-A096-47A68DC93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ACD6E-8AA0-4B8D-B57E-B0E0618F7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D6BAB-0F20-4CA1-8D02-779814448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887A3-2678-420C-9D42-6EA58186D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F3871-1AA2-461C-A7C4-7A25B31DF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24E95-9F1F-4F63-8C82-AF021BC1F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8891C-40D0-4D62-878A-2B4A7D6C7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C8E7F-3EED-40B9-A14D-B8113F43C8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DC4F6-96B0-4BCC-8294-3B59A67609A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6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장 정서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-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행동장애아 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1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정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진흥법 시행령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17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서장애에 자폐를 포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DEA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체 정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장애 아동협회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자폐시민협회의 자폐증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폐증과 자폐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인 등에 대한 특수교육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폐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원인 및 출현율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서와 행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각각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0.55%, 0.15%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원인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생물학적 요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손상과 뇌기능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경적 요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가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3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분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교육적 분류체제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분열적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사회적으로 부적절하거나 미숙한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사회적 위축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상동적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공격적인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미국 정신의학회의 정신장애진단 및 통계편람</a:t>
            </a: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(DSM-IV)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전반적 발달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주의력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결핍 및 파괴적 행동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유아기 또는 초기 아동기 급식 및 섭식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틱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배설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분리불안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선택적 함묵증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애착장애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상동적 운동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통계적 분류체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외부지향성 및 내부지향성 행동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4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반적 정서행동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적응행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업성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폐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극 과잉선택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낮은 동기유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기자극 반응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강화와 결과에 대한 독특한 반응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5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진단평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선별검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검목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checklist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투사검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접 관찰과 행동 측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02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6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 및 중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0074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관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계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급 행동관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물 치료와 교육의 병행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 하세요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!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13" name="Picture 4" descr="MCj04042630000[1]"/>
          <p:cNvPicPr/>
          <p:nvPr/>
        </p:nvPicPr>
        <p:blipFill>
          <a:blip r:embed="rId1"/>
          <a:stretch/>
        </p:blipFill>
        <p:spPr>
          <a:xfrm>
            <a:off x="2627280" y="1844640"/>
            <a:ext cx="439272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9T15:10:29Z</dcterms:created>
  <dc:creator>.</dc:creator>
  <dc:description/>
  <dc:language>en-US</dc:language>
  <cp:lastModifiedBy>sec</cp:lastModifiedBy>
  <dcterms:modified xsi:type="dcterms:W3CDTF">2010-01-11T00:15:28Z</dcterms:modified>
  <cp:revision>8</cp:revision>
  <dc:subject/>
  <dc:title>제 6장 사회교과교육</dc:title>
</cp:coreProperties>
</file>