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63D6F-19C3-42EB-8125-8B34675F4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652D7-0642-4B18-90CA-DE0301F8F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EE766-981C-48E0-A360-E09ECE069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9742A-44BD-4526-81FF-AC363D635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312D3-0A7F-4AD3-B8D1-35D6F92E1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84952-3120-4A09-9432-DD95A4959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0002E-4D3C-4079-B898-151C6DA68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A1B31-EC4B-4CD1-B200-A8CD3AA7E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3E345-6A7E-4FBE-970B-E85660871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04DE8-8D22-4917-955A-42C25117B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B66BA-3BB7-4A24-89CC-457451EEA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51702-144D-4F59-8B3D-24BD9B21C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CF822-88B9-4627-8830-50F28E5B6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1C260-E9D4-4745-B8C3-205496A02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F1A46-551A-4773-A6F4-7FFFC26DD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4EC1B-06D9-4EE9-AAE9-31DE251F7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35FA8-D1A0-4878-AF01-C75C5B674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8E37D-E020-4936-B392-25531C9D2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1CCAC-E16E-4F6A-A11D-DC8089FA1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74C8F-8B00-4CE9-B8D1-A1A7908FD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5A3AD-9850-4F7A-B3CF-08C1CF2A9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2E58F-86FB-409D-B53E-936EC820D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35C33-3DF6-4796-8BBF-187A3B07D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A905B-805C-420F-812A-4D68B8F74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23D34-8E7A-4B8A-9E72-171649B42E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2B27D-F784-43E6-8670-419028B6883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7</a:t>
            </a: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장 교사의 인사 및 복무 </a:t>
            </a:r>
            <a:endParaRPr b="1" lang="en-US" sz="48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등과 자유에 대하여 생각해 보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인사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사행정의 영역 또는 기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무의 분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신규채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무평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승진 및 배치전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등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7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쪽 참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인사행정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활동의 주체가 되는 교원이 이들을 지원하는 교육전문직과 일반직을 확보하고 자질을 향상시켜 근무의욕을 높여 주는 일련의 행정지원 활동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인사행정의 원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확립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실적주의와 연공서열주의의 적절한 조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정성 유지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적재적소 배치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적정수급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공무원의 분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교수 학장 총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 중등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치원 교사 원감 원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학사 장학관 교육장 교육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연구사 교육연구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09" name="Picture 3" descr="MCj04042630000[1]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staff</cp:lastModifiedBy>
  <dcterms:modified xsi:type="dcterms:W3CDTF">2008-12-10T09:05:28Z</dcterms:modified>
  <cp:revision>7</cp:revision>
  <dc:subject/>
  <dc:title>제 6장 교사교육 </dc:title>
</cp:coreProperties>
</file>