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86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12C50-CBCC-4D00-A2C6-A245C13AD05A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E0E2-6F4F-4E33-816B-EE2AB7AB6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26DD-1422-473A-9C8D-4FBABB115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369843-6336-4C53-A0E0-F02954D6B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305A49-BA35-4415-9F80-E1475FF97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7E6808-76C0-4D44-9F3A-2241E6877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CF80E0-EA7A-415F-A5C5-86949F462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4623F3-6A10-4986-8876-965E49A4B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D28DAC-5489-4A4D-88C0-F5D0966A7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53B3C4-0E3A-402C-82EF-D19EDD5EF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037978-F0ED-4B4C-9F6B-4C4693679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C8564F-6E64-4618-804D-6A77E6FDF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2C4D9F-259E-486A-8FD3-24ADAEBB3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0782-7C32-4F6C-93EB-256B84763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C13D66-1C6D-49BD-AD05-E58E63B50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D94650-D696-4388-BC29-1DA00031C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AC5768-0863-4692-821E-A768CD71D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A39FCD-35A0-4AFD-AAC9-92069DFDE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A654E9-6342-4874-B492-BDD7C37F4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114BA1-434E-4B49-B9A8-66FED8768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C86264-C218-46D1-A045-C72B0D727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CF158A-BFFA-4A70-A57A-9A0079AA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B2399C-ED45-4EAF-A046-A9DC38B0C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07A096-6503-4ACA-A931-72407CB9D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AF98-9197-4A60-8AE7-3B85D0749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EC71AB-AD99-4C26-8E16-8F2A5A0F8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C9E9B7-D1D2-4CB6-B306-D024EEF1C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E1B81A-FDC9-4DAD-BC9B-7A1C2E963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CABE28-51DC-43C8-8806-736FCFD91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D50EF9-B5CB-4C08-A8F0-4095F991D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AD9980-3FD3-44D3-9F18-494E56807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407A07-DA70-482C-B19D-8257F5A60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1D0074-B8B3-4033-8898-8836A3AA9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837E96-90DC-4CF2-9521-4049F52E7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C2B85D-4072-45B2-90F7-E66E97B02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AADCB-256C-443F-A219-6A3E0E560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9EE052-BB96-4EAE-994A-3BFE6B1AE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59D79A-C371-4DD8-BC5C-4259198B2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09E8AD-DFA1-4D2E-86B6-10C7AD330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659784-AB5E-4F25-BBF8-88B310783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5D2489-4ABC-4C53-882C-1849C2110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0D9595-75FC-4B8C-94B0-B0C37F527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9B4921-4456-4539-8F0C-1CB3F5BF7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0F2C18-1F25-42CB-A67D-74B2F5A2E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00E71B-C4B0-438E-9AAD-CE948574E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D16A9B-2EB5-4063-9094-0489DFEEE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9C738-82E2-488D-9374-DF5298B8E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B896F8-6AB6-4192-A258-4B7BD4C22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90E4BD-BC13-4D51-8663-EB5300EB5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2B6F9C-5058-4365-9B95-CCE7B28BB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0DA203-E54E-451A-9F06-B553F5377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E20C47-6804-4CF2-9480-D3702F7E6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B695D80-6F52-4ADC-84E6-9C4AFE56D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9BE05C6-1D80-4CBE-B5A7-ECB07014E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14B5B18-F53D-496C-BDEC-E0DD035F2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E1289BE-7E5C-40BD-80E6-4B8919514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B39B2A8-A96D-4F5B-82C7-75383A8D4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1B277-2259-4C9A-BE00-B0DE301CB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343B1FE-6F44-49B0-B463-22E1B6043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34D7F8E-2C37-4A34-A9DB-A5336E967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1CC9C69-472F-4231-898D-350865C9D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6291DEF-BA78-46ED-B5A5-08ED94D32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3F67C78-5129-4476-9C67-55D938337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745B3D4-DFDE-4D2F-8A55-E0E359399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4AEBCE3-5507-4406-BAD7-06324F72C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E6D9C-6440-4BFF-8917-CA9A9D0C8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991F5-FAA4-4FA0-BDC2-3D5C72D61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6FBE5-FC3A-439B-B6B9-62323105B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87900-1EBD-47C6-B9AE-9B4E70E0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3740-C3E2-4A4C-A937-9E66AB07F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24E4D-6879-448C-9B12-F182956A2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D26F2-C52D-4E0D-9500-2E431FD99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B524A-B278-494B-B9A9-DEE7E004C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3CDCF-D224-41AE-AD4A-2564ADD44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6B022-7B68-4377-A93A-2A0467522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4305D-1D37-49DA-A604-11E3DA379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EF792-C6B4-498B-BC6E-FA75343B9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51247-1350-40C3-9AF7-B6810079D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40FA1-756F-42AE-9E04-A517D9C06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3E210-8DF2-4D34-9F4C-FC772C9D7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8A35-18DC-4D60-9DF0-74BD1ADA0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0DB65-440E-42D3-A0D3-93418D16A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BF166-5441-44AF-A563-C4BB39132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83117-F993-4E7C-9B3E-C2710299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694FB-53B5-45B9-A003-9AB8D9EF6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16ABB-F364-414D-A416-267B20C61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5ACD0-4C1C-40E0-9FA6-7FCEF713D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7440C-AD28-4272-B74A-6452900C3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17701-722A-470C-B2AC-8A1535948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6D79C-64BE-4C1D-9788-EBD887A54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71B59-CDA9-46A7-9D52-FAE5E1661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E384-38E0-469B-9362-41733995A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1B075-A166-4616-931A-01A3C95CE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C06FD-9EA9-4B39-9840-D096F7B1B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30E78-283B-43BC-AB21-C206DF882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29A67-C9C5-4C48-B443-D680C54E4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9BBEB-D61F-40B4-A34B-52781B99D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93875-4512-486A-AAED-4F2D857E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9946E-38E1-47E5-A1D8-43DFD35D2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AFB9D-DD7B-470F-BE16-53B9DB5E3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6A6114-996F-4749-8EA0-8C47816E7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3A1EDB-783B-4D48-817A-23AD59746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E654-2CD0-405B-A49E-C91B6E914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3F68AD-3A80-45E5-8C68-86A68F83E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30230D-3412-46AB-8097-3DAEE948A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B6CEAC-FAB1-41D4-AC5E-C80A7DAB9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224F8F-5AE8-4587-B361-477B3ADCF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05F3F1-F46D-4E67-B5BE-04E81F08C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1863A6-3044-4753-A850-D31A537CF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78E468-045F-4D6E-93E1-71ECBD523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227D28-BE2E-4613-974D-E3D6B7F47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2B5E42-A3FF-40EB-BCF2-A7D970FC7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934C1A-8C7F-4789-9981-20475E829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5AFD-4FFF-48D0-8CB0-AEBC03CC3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789EC6-53C0-4F2D-AF31-BED5A280C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80F731-17E3-4B71-8E9C-53F12A38A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1AC674-7A2A-4B77-9CC1-014C33ABC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277541-7B05-4944-938E-3E10BBD95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9002AD-E75C-4E78-9FC9-3C8D5BBC3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CB5C18-14A8-4845-8939-020CD5EBA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2F9286-CBE7-4DC7-9556-410E03530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F14DC2-8849-4DD6-B322-81BA228D8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4048E6-FBC9-406A-AF1E-175412EFE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AFAC8F-E621-45D3-8BE1-F24154867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7E82-7841-40AC-9DD0-06159B20E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15A594-94E0-4540-879D-3F93B39E3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18E4C9-EFA0-4F0A-84AC-C68788A95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E5AC6B-F82E-4911-B3B2-2DBF4E983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FC4B85-101E-4ACD-82E6-7D34DE7F9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52E193-1BC7-4AF7-85EF-5E7E335F1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E47B6D-DDA7-4555-B598-2B9118C66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0A6B26-6F25-4193-978C-11DE7721F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360B11-7BFF-4BE0-80B6-02F2DBEEA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C5E0D4-0AFA-4A30-913C-650045862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077E2F-C435-4FC9-A3BD-73E9D77BB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4AE7-56FC-4B38-9A11-81D012336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D2A8D8-6AE3-43E2-AF98-F6C5ECB2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359412-F7A3-40D2-9FE8-8984261BA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E7AC76-1791-4C01-B61C-7CB48A12D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27DC4B-F94D-442D-A47B-5DF45C6C3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5F2AA6-797F-464B-8BB2-E4234DDB7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80EFCD-7A33-42AF-A6FE-97CDFACB2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B99CD9-94C9-4051-8F9F-45B60FB31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384CBA-F654-4CF2-ABD4-77573EF41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224387-FF6F-4A6E-8AA8-35DC95717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AA9025-FE26-4700-86A1-75FCC9A09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48BA-903D-4030-A973-8FDAD54AE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435351-D52E-4050-83F2-33B2A42C0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2F0B4E-15FB-4981-BA5B-B9C3CD610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2F5950-013E-458A-86FD-2D371B903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4662DE-15DE-4D72-8B0A-96DC5D784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3D481D-974C-4BDE-BAC1-3B84D5508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569F44-2716-40E1-95F2-86AEF82C5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DBE41D-E8F2-45E4-BB11-AD264D496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03DE39-F73A-4F53-9AB2-BCD119E42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15EFBE-D7FF-47D6-9CFB-FC649FF71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410C62-C4A9-4809-B865-0408BBE77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E7FF2-B4F7-456B-8288-F26C9441819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E37E0-14D5-457C-8337-AB1027C4F93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82AF7-1049-4C08-8AFD-89E6D467A3A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1874A-34A9-4ECE-BEDB-16F6921DE3E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FFE45-D87C-48BE-9533-B03061514FA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01120-5CAB-48A1-9A2B-1997D346D9D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E5028-8510-4C6E-9576-11645770AFD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491B4-9774-41A6-A8CC-739BDAA43DE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119C3-0E1D-4666-9F82-11FEB009541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25512-BEAD-4B4F-BCD9-1DF8B33D43E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CDEB4-83D0-4E78-8FE2-54610DB5F8F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193CF-AB68-44E3-B71A-20A75B881DD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56CB2-B6BE-4631-A8A8-8D5B61088C3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18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84480" y="2357280"/>
              <a:ext cx="3080880" cy="3357000"/>
              <a:chOff x="384480" y="2357280"/>
              <a:chExt cx="308088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84480" y="2357280"/>
                <a:ext cx="3080880" cy="3357000"/>
                <a:chOff x="384480" y="2357280"/>
                <a:chExt cx="308088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84480" y="2357280"/>
                  <a:ext cx="3080880" cy="3357000"/>
                </a:xfrm>
                <a:custGeom>
                  <a:avLst/>
                  <a:gdLst>
                    <a:gd name="textAreaLeft" fmla="*/ 150120 w 3080880"/>
                    <a:gd name="textAreaRight" fmla="*/ 2930760 w 3080880"/>
                    <a:gd name="textAreaTop" fmla="*/ 150120 h 3357000"/>
                    <a:gd name="textAreaBottom" fmla="*/ 3206880 h 3357000"/>
                  </a:gdLst>
                  <a:ahLst/>
                  <a:rect l="textAreaLeft" t="textAreaTop" r="textAreaRight" b="textAreaBottom"/>
                  <a:pathLst>
                    <a:path w="21600" h="23536">
                      <a:moveTo>
                        <a:pt x="3600" y="0"/>
                      </a:moveTo>
                      <a:arcTo wR="3600" hR="3600" stAng="16200000" swAng="-5400000"/>
                      <a:lnTo>
                        <a:pt x="0" y="19936"/>
                      </a:lnTo>
                      <a:arcTo wR="3600" hR="3600" stAng="10800000" swAng="-5400000"/>
                      <a:lnTo>
                        <a:pt x="18000" y="2353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84480" y="2357280"/>
                  <a:ext cx="57060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55760" y="2441160"/>
                <a:ext cx="2939760" cy="3217680"/>
                <a:chOff x="455760" y="2441160"/>
                <a:chExt cx="293976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55760" y="2441160"/>
                  <a:ext cx="2939760" cy="3217680"/>
                </a:xfrm>
                <a:custGeom>
                  <a:avLst/>
                  <a:gdLst>
                    <a:gd name="textAreaLeft" fmla="*/ 143280 w 2939760"/>
                    <a:gd name="textAreaRight" fmla="*/ 2796480 w 2939760"/>
                    <a:gd name="textAreaTop" fmla="*/ 143280 h 3217680"/>
                    <a:gd name="textAreaBottom" fmla="*/ 3074400 h 3217680"/>
                  </a:gdLst>
                  <a:ahLst/>
                  <a:rect l="textAreaLeft" t="textAreaTop" r="textAreaRight" b="textAreaBottom"/>
                  <a:pathLst>
                    <a:path w="21600" h="23642">
                      <a:moveTo>
                        <a:pt x="3600" y="0"/>
                      </a:moveTo>
                      <a:arcTo wR="3600" hR="3600" stAng="16200000" swAng="-5400000"/>
                      <a:lnTo>
                        <a:pt x="0" y="20042"/>
                      </a:lnTo>
                      <a:arcTo wR="3600" hR="3600" stAng="10800000" swAng="-5400000"/>
                      <a:lnTo>
                        <a:pt x="18000" y="2364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55760" y="2441160"/>
                  <a:ext cx="54468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94360" y="3143160"/>
                <a:ext cx="263772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28760" y="2401560"/>
              <a:ext cx="21394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357120" y="3315960"/>
              <a:ext cx="314316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31360" y="2344680"/>
            <a:ext cx="21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특수 아동의 유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34320" y="3267000"/>
            <a:ext cx="228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미국 장애인 교육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37320" y="418788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 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58118-8EED-4F8F-812C-D7DC586B613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175360" y="506520"/>
            <a:ext cx="372420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4" name=""/>
          <p:cNvGraphicFramePr/>
          <p:nvPr/>
        </p:nvGraphicFramePr>
        <p:xfrm>
          <a:off x="714240" y="3214800"/>
          <a:ext cx="7858440" cy="3132000"/>
        </p:xfrm>
        <a:graphic>
          <a:graphicData uri="http://schemas.openxmlformats.org/drawingml/2006/table">
            <a:tbl>
              <a:tblPr/>
              <a:tblGrid>
                <a:gridCol w="1546200"/>
                <a:gridCol w="63122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8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영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 이상이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분야에서 탁월한 재능을 보이는 학습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지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유의하게 낮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Q 70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적응행동 결손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실용적 및 사회적 지능이 있는 장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높지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교과의 학습이나 인지과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;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언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메타인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에 문제가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ADH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의력결핍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과잉활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충동성 등의 특징을 갖고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BA183-E2EA-4FCE-9AA9-AC0BF73482A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8" name="직사각형 14"/>
              <p:cNvSpPr/>
              <p:nvPr/>
            </p:nvSpPr>
            <p:spPr>
              <a:xfrm>
                <a:off x="1468440" y="138600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특수학습자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43"/>
          <p:cNvGrpSpPr/>
          <p:nvPr/>
        </p:nvGrpSpPr>
        <p:grpSpPr>
          <a:xfrm>
            <a:off x="571680" y="1876320"/>
            <a:ext cx="8072280" cy="1452240"/>
            <a:chOff x="571680" y="1876320"/>
            <a:chExt cx="8072280" cy="1452240"/>
          </a:xfrm>
        </p:grpSpPr>
        <p:pic>
          <p:nvPicPr>
            <p:cNvPr id="797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2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8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799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0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직사각형 19"/>
            <p:cNvSpPr/>
            <p:nvPr/>
          </p:nvSpPr>
          <p:spPr>
            <a:xfrm>
              <a:off x="928800" y="200016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수학습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ceptional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learner)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능력이 특별히 높거나 반대로 능력이 특별히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낮은 학습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 및 행동의 측면에서 정상범주에서 이탈된 학습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TextBox 9" descr=""/>
          <p:cNvPicPr/>
          <p:nvPr/>
        </p:nvPicPr>
        <p:blipFill>
          <a:blip r:embed="rId1"/>
          <a:stretch/>
        </p:blipFill>
        <p:spPr>
          <a:xfrm>
            <a:off x="5181480" y="506520"/>
            <a:ext cx="359748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3" name=""/>
          <p:cNvGraphicFramePr/>
          <p:nvPr/>
        </p:nvGraphicFramePr>
        <p:xfrm>
          <a:off x="635040" y="1928880"/>
          <a:ext cx="7873920" cy="4513320"/>
        </p:xfrm>
        <a:graphic>
          <a:graphicData uri="http://schemas.openxmlformats.org/drawingml/2006/table">
            <a:tbl>
              <a:tblPr/>
              <a:tblGrid>
                <a:gridCol w="1650960"/>
                <a:gridCol w="6222960"/>
              </a:tblGrid>
              <a:tr h="37152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90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말하기 및 소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업수행을 심각하게 방해하는 말 혹은 언어이해의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서 및 행동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간 지속되고 학업을 심각하게 방해하는 정서 혹은 행동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폐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상호작용 및 소통의 손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반복적인 행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정된 흥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측가능한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환경에 대한 강박적인 요구를 특징으로 하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체 및 건강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제한된 에너지와 활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적 민감성의 둔화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육의 통제 결여 중 하나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상의 특징을 갖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있는 신체 혹은 의학적 조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시각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시지각을 방해하는 눈 혹은 시신경의 기능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각 상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말의 빈도 범위에서 소리지각을 방해하는 귀 혹은 관련 신경의 기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AB237-6018-4C21-B966-AB336159867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5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06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67686-6A3E-4AFA-9155-FB6B669F12B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0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09" name="직사각형 14"/>
              <p:cNvSpPr/>
              <p:nvPr/>
            </p:nvSpPr>
            <p:spPr>
              <a:xfrm>
                <a:off x="1504080" y="1386000"/>
                <a:ext cx="1596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미국 장애인 교육법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3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7" name="그룹 43"/>
          <p:cNvGrpSpPr/>
          <p:nvPr/>
        </p:nvGrpSpPr>
        <p:grpSpPr>
          <a:xfrm>
            <a:off x="571680" y="1876320"/>
            <a:ext cx="8072280" cy="695520"/>
            <a:chOff x="571680" y="1876320"/>
            <a:chExt cx="8072280" cy="695520"/>
          </a:xfrm>
        </p:grpSpPr>
        <p:pic>
          <p:nvPicPr>
            <p:cNvPr id="81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695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9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82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1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2" name="직사각형 19"/>
            <p:cNvSpPr/>
            <p:nvPr/>
          </p:nvSpPr>
          <p:spPr>
            <a:xfrm>
              <a:off x="928800" y="200016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1975</a:t>
              </a: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년 장애 학생이 무상 공교육을 받을 수 있도록 제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직사각형 16"/>
          <p:cNvSpPr/>
          <p:nvPr/>
        </p:nvSpPr>
        <p:spPr>
          <a:xfrm>
            <a:off x="285840" y="2890800"/>
            <a:ext cx="8572320" cy="30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무상의 적절한 공교육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Free Appropriate Public Education: FAP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에게 무상으로 적절한 공교육 제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교육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인에게 교육적 수혜를 제공하기 위해 특별히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  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별적으로 고안된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통합을 향한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Mainstreaming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의 선택된 활동만을 위해서라도 특수학생들을 분리된 학급에서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규 학급으로 이동시키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점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 등이 종종 필요한 조력을 받을 수 없는 교실에 배치됨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4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2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1672B-0A07-4E88-A458-19BD18A49A4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직사각형 16"/>
          <p:cNvSpPr/>
          <p:nvPr/>
        </p:nvSpPr>
        <p:spPr>
          <a:xfrm>
            <a:off x="142920" y="1857240"/>
            <a:ext cx="8929800" cy="34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Least Restrictive Environment : LRE)</a:t>
            </a:r>
            <a:r>
              <a:rPr b="0" lang="en-US" sz="17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의 문제점에 대한 대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buClr>
                <a:srgbClr val="424456"/>
              </a:buClr>
              <a:buFont typeface="휴먼모음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특수한 욕구를 만족시키면서 가능한 한 일반학교에 배치하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일제로 일반학급에 배치하는 것으로부터 분리 시설에 수용하는 것까지의 연속상의 서비스로 구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응적 일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이 특정학교에서 요구를 충족시킬 수 있는 정도와 학교가 욕구를 충족시킬 수 있는 정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LRE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의 중심 개념으로 특수학생의 교육을 위한 개별화 접근을 중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7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28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26EB3-2E15-4178-85F3-7D510250E05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9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0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1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5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3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7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8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40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41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42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3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4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5" name="직사각형 16"/>
          <p:cNvSpPr/>
          <p:nvPr/>
        </p:nvSpPr>
        <p:spPr>
          <a:xfrm>
            <a:off x="285840" y="2786040"/>
            <a:ext cx="8572320" cy="39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전략 원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들의 학습을 증진시틸 효과적 교수방법 사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의 필요에 맞는 수업 활동 및 과제 설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 욕구 충족 위한 조정된 독서 자료 준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전략을  적극적으로 가르칠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성장과 교실 내 통합을 위한 계획 실행</a:t>
            </a:r>
            <a:br>
              <a:rPr sz="1800"/>
            </a:br>
            <a:r>
              <a:rPr b="0" lang="ko-KR" sz="1800" spc="-1" strike="noStrike">
                <a:solidFill>
                  <a:srgbClr val="000000"/>
                </a:solidFill>
                <a:latin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지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체 학생이 제자리에서 개별 과제 수행 시에도 교사가 개인적으로 혹은 소그룹 학생과 과제 수행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가적인 조정사항의 예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5.4&gt; p. 2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6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4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B7561-6905-4C6E-8A7A-669CAB82A25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50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4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8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5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0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6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2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3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16"/>
          <p:cNvSpPr/>
          <p:nvPr/>
        </p:nvSpPr>
        <p:spPr>
          <a:xfrm>
            <a:off x="285840" y="2786040"/>
            <a:ext cx="8572320" cy="33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행동을 학습하도록 돕기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 개선의 두 가지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담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응용행동분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코치와 시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호작용과 협력을 증진시키기 위한 전략들 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학생만큼 특수학생도 자주 호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협동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또래 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조적 테크놀로지 활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28T00:35:24Z</dcterms:modified>
  <cp:revision>363</cp:revision>
  <dc:subject/>
  <dc:title>PowerPoint Template</dc:title>
</cp:coreProperties>
</file>