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E4FDE-8FE9-466C-99DC-CB275F3F7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269A9-0593-46C0-BA04-E441FE6E5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CB915-F844-4DA4-8657-31489DDDE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3D383-D05D-442C-92DB-A660B6FBB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4A601-76A0-4CB2-A530-B4AECC28B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DB142-E5E4-4BAC-AEF1-B13496BC3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5DF7D-9181-4D8A-8BE5-E918B3CC2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7947A-4C4B-4C14-BBBA-567A84A4F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AF8E1-523E-4C91-9C58-75A070234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3AC6A-60F5-4906-8EA1-71FB8BFC9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D5E18-579B-4437-898B-74DE79B8E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C8AD9-AE37-4820-A4EB-F7A6140EF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141DE-E3E3-4219-B9C5-134BC3696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F8BB5-CC04-4CBD-A18E-D191A0FD0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22FCA-D790-4696-90E0-9ADCA28C7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62289-28EA-42AB-B1F3-D07BDC9EC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9C399-D329-411C-A86C-ACAE3BEC6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D1ED9-7032-48A6-A038-58C759043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AC53B-C37D-4372-98EE-39D078ECF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AFAB4-90C9-48C5-847F-B4CCC2EC2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B0D94-54CF-407F-B8FB-952F0CBEC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EA02E-C054-48B6-91C6-4B2056FC7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6D05D-869E-4428-8BC5-67253FC15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38A50-3DCF-43FB-9C28-8CFF1D115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E0666-16AE-431A-8C07-B4B87053F5E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994E4-6579-4725-A2E0-01E4FA0CBAF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서울재활병원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시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출근시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8:40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심시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12:30~1:30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퇴근시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6:0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요일 오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분 예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년치료실은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분까지 가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해야한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복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색 면바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흰색 카라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단화 및  운동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실습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습기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총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인치료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.2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아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청소년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통증치료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씩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rotation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불시에 교육이 있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균 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회정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기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숙박 – 근처 고신원 가격대 다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략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0~ 4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심 – 병원내 직원 식당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달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Report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기본 주마다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그 외 파트마다 선생님이 내주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4:02:00Z</dcterms:created>
  <dc:creator>SEC</dc:creator>
  <dc:description/>
  <dc:language>en-US</dc:language>
  <cp:lastModifiedBy>SEC</cp:lastModifiedBy>
  <dcterms:modified xsi:type="dcterms:W3CDTF">2009-04-09T04:09:25Z</dcterms:modified>
  <cp:revision>2</cp:revision>
  <dc:subject/>
  <dc:title>서울재활병원</dc:title>
</cp:coreProperties>
</file>