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4471-F68F-4678-A2AB-262C480F6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02B9-D531-4187-AC44-68B3CEAF7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67CA-10CD-41A6-A2E6-ECD7B83CD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04DD-A90C-4D12-BA41-9188B79F1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0BD3B-CD93-4643-AE86-7A448ABE4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857B7-A4BD-44E4-93F2-86A5E6D24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44DFE-DA53-4F70-851B-A8CAFC670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6518C-E55C-4A6A-82FE-D498D80B6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F11D1-3964-41C4-8B2A-29815BAB0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8F428-D0CF-463C-821E-FD36A682C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27900-22D0-4FB3-B0C9-6B77EAB97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CB6E-A440-49FE-B368-632A4BDFA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9BB7B-8448-4BED-A3A9-FA80C6F4F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9E325-AF42-4732-BE6F-0C7989B95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04E84-D7E6-45C7-9FE4-C6340A083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41FBB-C5EE-4915-9879-4B8CCF81B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FEAF1-E5FB-4422-B530-46187CB4A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53E4-9E45-4E04-9992-63223027E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C578-BD0D-40DD-8E30-0840B7750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E60E-E9EE-4E86-A77A-401D8BD4D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9000-A6FA-4CC6-81E6-14885139A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5B0A-0445-4051-BD41-172C036DC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F3A2-2EAD-4476-BF53-8D78AD625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E8E7-6C1B-4B0F-8ABE-F6DF35E36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009EB-49EA-44FC-87F8-633B2D662543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22D07-029B-4DBB-8D2D-1F21E6E269A7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대구대학교 언어치료학과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말더듬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습된 행동으로써 조작적 반응과 수동적 반응 두 가지 모두로 구성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적 측면과 수동적 측면에 대한 상대적인 중요성과 이들의 상호관계의 범위에 대한 의문은 남아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은 화행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peech act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불안 요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구어문제에 대한 본인이 말로 진술하는 태도 등 적어도 세 가지 행동 유형으로 구성되어 있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의 구어 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강 및 호흡 메커니즘의 활동들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 및 단어부분의 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또는 폐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한 화자라도 가끔 “말을 더듬음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으로서의 자아개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elf-concep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나친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한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별히 구어적 혹은 태도적인 특징이 없이 종종 나타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2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불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 신경계의 작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흥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excitement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성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ctivation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사하지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동일한 활동은 아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시적인 고음도의 음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태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ate 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나지는 않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과 같은 어떤 생리적인 관련성을 통해서 단지 간접적으로 감지되거나 측정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성 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rait anxiety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를 통해서 그 사람을 측정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과적 관련성에 대한 확실한 증거 발견하지 못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두 행동으로 표현된 태도는 말더듬을 경험 후에 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해 깨닫는 연령이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에서 그것에 대한 반응을 알 수 있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에 관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Bloodstein(1995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의 논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는 치료 결과와 중요한 관련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들이 정상인들보다 의사소통에 좋지 않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 가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좋지 않은 태도는 말더듬의 심한 정도와 관련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의 치료 후의 향상 사이에 약간의 정적 상관관계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의 변화가 구어의 개선에 미치는 역할은 언급없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이 개선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가 개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790200" y="790560"/>
            <a:ext cx="5967720" cy="3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282840" y="2336760"/>
          <a:ext cx="2805120" cy="3774960"/>
        </p:xfrm>
        <a:graphic>
          <a:graphicData uri="http://schemas.openxmlformats.org/drawingml/2006/table">
            <a:tbl>
              <a:tblPr/>
              <a:tblGrid>
                <a:gridCol w="215280"/>
                <a:gridCol w="305280"/>
                <a:gridCol w="305280"/>
                <a:gridCol w="616680"/>
                <a:gridCol w="411840"/>
                <a:gridCol w="305280"/>
                <a:gridCol w="215280"/>
                <a:gridCol w="215280"/>
                <a:gridCol w="215280"/>
              </a:tblGrid>
              <a:tr h="33372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신체적 기질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(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프로세싱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)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720"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말더듬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720"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불안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태도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80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22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환경적 영향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정적 강화 벌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부적강화소거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3069720" y="113040"/>
            <a:ext cx="300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그림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1.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말더듬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불안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태도 요인들과 환경과 상호작용하는 생리적 기질 사이의 상호관계</a:t>
            </a:r>
            <a:endParaRPr b="0" lang="en-US" sz="9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현재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974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년의 저자의 차이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의 주된 원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의 결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피드백을 제공하는 종속적인 문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제를 증가시킬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아동과 성인에게서 문제의 부분이 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와 불안은 말더듬으로부터 오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악화시킬 수도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우 어린 말더듬 아동들이 가장 잘 치료가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말더듬인은 치료 정도가 낮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습관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을 더듬은 년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부정적인 태도를 지원하는 자극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효과적인 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어린 나이에 부정확하게 가르침 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더듬은 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분석에 사용되는 용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S+, Rf, R+, S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으로도 말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을 불러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성 자극이 변별 자극으로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은 반응의 뒤에 따라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발생 빈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+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결정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가능성에 영향을 미치는 모든 구두적 혹은 비구두적 사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후속자극의 조작을 통해 행동을 변화시키는 </a:t>
            </a:r>
            <a:r>
              <a:rPr b="0" lang="en-US" sz="3200" spc="-1" strike="noStrike">
                <a:solidFill>
                  <a:srgbClr val="006666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가지 방법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적 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비율을 증가시키는 정적 강화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부적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제거함으로써 그 반응의 비율이 증가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이 아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적강화와 벌이 모두 혐오자극과 관련이 있기 때문에 혼동가능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주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거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을 강화시켜왔던 후속자극을 제거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가장 강력하지 못한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연속적인 유사 또는 형성법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successive approximation or shaping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바라는 표적 행동에는 근접되었지만 정확한  표적 행동은 아닌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행동들을 강화함으로써 어떤 반응이나 반응의 연속을 가르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목표 반응이나 반응의 연속 쪽으로 점차적으로 변화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바람직한 반응 혹은 반응의 연속이란 최종목표 쪽으로 행동 또는 단계들에 대한 프로그램 혹은 수정이란 개념으로 발전되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5" name="0042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723569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강화 스케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을 주는 빈도의 변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치료에서 중요한 문제인 유지에 있어서는 중요한 개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용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fading)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회를 감소시켜 나가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종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%, 50%, 10%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정간격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변동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“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”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와 장애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내가 찾는 의사에 대한 가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최고의 지식을 가지고 있을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좋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잘 맞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약을 처방할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극 일반화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별적 자극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외에 자극 제시 하에서 일어나는 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는 임상가이외의 사람과도 유창하게 말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자극 일반화는 자발적 혹은 치료과정에서 증강되어야 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반응 빈도 혹은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강도를 측정하는 일반적인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보통 시간 단위로 측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 분당 반응의 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백분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단어당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개 말더듬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비율의 증가나 감소 의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극 혹은 후속자극들이 반응비율의 변화에 영향을 미쳤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수행의 기준수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행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을 연구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변화시키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르칠 때 바라는 수준을 의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속적인 정반응의 수 등으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계의 수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없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,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연속적인 유창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유창한 구어의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려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한 높은 수준 혹은 말더듬에 대한 낮은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0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설정하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수준을 높지 않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계속하게 될 것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높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보다 어려운 다음 단계로 나아가지 못할 가능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의 야기 혹은 조작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의 빈도와 비율에서 변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라 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화를 야기하는 자극 또는 후속자극을 조정함으로써 말더듬을 조작적으로 통제할 수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“No”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끄덕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nodding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얼굴을 돌리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looking away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지루한 기색을 보이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yawning)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말더듬에 대한 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상담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 전 및 치료 후에 태도를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인이 유창성이 증가된 결과에 따라 구두적 진술의 유형들을 조작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긍정적 구두 진술을 하게 만들었고 또 태도 변화를 가져왔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respondent;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수동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요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전적 조건화에서 관찰된 것과 유사한 반응의 분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과 관련된 필수적인 반응적 반응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 반응과 조작적 반응과의 관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동시에 일어날 수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서로 각각의 반응을 불러일으키거나 유도하거나 심지어 방해를 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완전히 독립적으로 일어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적 행동을 연구에 포함하지 않는 이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은 직접적으로 관찰하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하고 조작하기가 어렵기 때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말더듬에 관한 연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초기에 많은 연구들이 보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에 대한 관심이 감소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을 실험적으로 증명불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에 대해 관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현 시점에서는 크지 않으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에서 불안에 관심을 가지도록 지지할 실험적인 정보가 비교적 적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이 말더듬을 증가시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청중 수 증가가 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집중적인 논의나 그 가치가 크다는 것이 증명되지 않았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과 함께 불안의 공존을 측정하는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 불안의 변화 등에 비해 관심이 더 많지 않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최근에 말더듬의 발달과 치료에서 불안의 역할에 대해 고찰하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 사이의 관계에 관해서 재조사할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많은 환자들이 불안을 보고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임상가들이 치료에 어떤 형식의 불안 감소치료를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세 가지 수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지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는 정말 긴장하고 있어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전화 받는 것과 같은 어떤 구어상황을 피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GRS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와 불규칙적인 심장박동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단일대상설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독립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반응 후에 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NO”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라는 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의 기능적 관계 연구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능적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의 반응비율에 미친 독립변인의 효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증가 또는 감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결과는 일반적으로 숫자로 나타낸 표보다는 그래프나 차트 형태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대상 설계의 특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 종속 변인에 미친 독립 변인의 효과를 직접적이고 신뢰성 있게 관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적인 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ABA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비율 혹은 기준선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 변인이나 조작을 제시하거나 중지를 여러 번 실시하고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시 기준 비율을 각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연구 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종속변인으로서의 말더듬과 독립변인으로서의 말더듬에 주는 후속자극으로 임상가가 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No"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를 제시하는 것에 대한 단일대상설계의 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59" name="_x81732624" descr="EMB00000840b0b2"/>
          <p:cNvPicPr/>
          <p:nvPr/>
        </p:nvPicPr>
        <p:blipFill>
          <a:blip r:embed="rId1"/>
          <a:stretch/>
        </p:blipFill>
        <p:spPr>
          <a:xfrm>
            <a:off x="2627280" y="3141720"/>
            <a:ext cx="48243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류 최초의 말더듬 현상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언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누구에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PFAGH + Cs(Wf + Sf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S  = ------------------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M + Ep Fl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본서의 초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자극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후속자극이란 견지에서 분석 가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어나고 있는 행동이 무엇인가를 결정하기 위해서 관찰할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서 변화를 가져올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변인을 조정할 수 있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변화시키는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지 필수적인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 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연속적인 유사라는 것은 어떤 프로그램을 개발하기 위한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 대한 조작적인 정의 혹은 설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정확하게 나타내고 신뢰성 있게 측정 가능하게 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더듬은 구어 및 유창한 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면적이고 측정 가능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와 더듬은 구어 사이를 구별하는 것을 돕기 위한 조작적 정의를 내림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태도 등의 수정을 포함하여야만 한다고 주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과 태도는 직접적으로 쉽게 측정되지 않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의 산출이 불안과 태도에서 동시적인 변화를 가져오는 경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인의 부정적 태도 및 해로운 불안을 수정하기 위한 가장 좋은 절차는 유창하게 말하는 능력을 제공하는 것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장 행동원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조작적 행동 및 수동적 행동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경을 분석하고 조절하는 시스템의 일종인 행동주의의 한 형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주의의 주 전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이 행동을 결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수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 관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실험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기능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조건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밀 교수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프로그램화된 교수법 등의 용어로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적 행동의 조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 접근법의 특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직접 관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관찰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속적인 측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측정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③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후속자극의 체계적인 조작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*(   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표적 행동을 설명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0042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행동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이론 시스템에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모든 행동의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정한 자극의 통제 하에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숨겨져서 나타나지 않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한 반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신경계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자극의 통제 하에 오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에 의해 행동의 발생이 따라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난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항문근의 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추신경계의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은 조작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경심리적 혹은 심리기인적 요인들에 의해 유발된 것은 제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혐오 사건을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감소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정적 강화를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감소시키는 후속자극이 환경에서 말더듬에 영향미치는 조작적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후속자극을 조작함으로써 피험자를 조절할 수 있다는 믿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본서의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러한 믿음에 기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분석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객관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당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뢰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대단히 효과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효율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움이 되어 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대부분의 정의에 포함된 사항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구어 유창성의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에 대한 특정한 공포 또는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에 대한 공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 그 자체의 장애와 관련된 자아개념 또는 태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의 원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학상의 불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될 수도 있는 어떠한 행동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리역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개인적 부적응의 표현으로 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을 학습된 행동 특히 조작적 행동으로 보는 관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5" name="0042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2T01:40:00Z</dcterms:created>
  <dc:creator>user</dc:creator>
  <dc:description/>
  <dc:language>en-US</dc:language>
  <cp:lastModifiedBy>user</cp:lastModifiedBy>
  <dcterms:modified xsi:type="dcterms:W3CDTF">2013-11-13T02:04:43Z</dcterms:modified>
  <cp:revision>39</cp:revision>
  <dc:subject/>
  <dc:title>말더듬 치료 프로그램</dc:title>
</cp:coreProperties>
</file>